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zapbig0g.wav" ContentType="audio/x-wav"/>
  <Override PartName="/ppt/media/zipdn102.wav" ContentType="audio/x-wav"/>
  <Override PartName="/ppt/media/slider22.wav" ContentType="audio/x-wav"/>
  <Override PartName="/ppt/media/bserie06.wav" ContentType="audio/x-wav"/>
  <Override PartName="/ppt/media/jetflyby2.wav" ContentType="audio/x-wav"/>
  <Override PartName="/ppt/media/lzipup01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5798B-1D2E-4351-996C-D38FC2B66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D4B69-E8A9-4223-AAC9-429AA1015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0E7B2-0CCB-4937-8994-AA46C5E87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4E811-554C-4AE1-8F73-274318CB0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C0891-934A-4198-BAE3-21897CCBB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04409-3C12-40EA-BDAE-7B497D2F7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4641C-C3C0-4CEE-A635-2EBDED5D1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B85C0-EAA3-4FC3-9FA6-4504FF233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71D76-81C2-49EA-83F4-42AC64136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1E75F-456F-4447-8DFE-C4079E4EB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15CB6-E3F1-49AA-911A-34871BA6A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F9B8F-29EF-4BCC-994F-2BAB7CE5E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9838B-E798-433C-88F8-DCB64B33FB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zapbig0g.wav"/><Relationship Id="rId2" Type="http://schemas.openxmlformats.org/officeDocument/2006/relationships/audio" Target="../media/bserie06.wav"/><Relationship Id="rId3" Type="http://schemas.openxmlformats.org/officeDocument/2006/relationships/audio" Target="../media/jetflyby2.wav"/><Relationship Id="rId4" Type="http://schemas.openxmlformats.org/officeDocument/2006/relationships/audio" Target="../media/jetflyby2.wav"/><Relationship Id="rId5" Type="http://schemas.openxmlformats.org/officeDocument/2006/relationships/audio" Target="../media/zipdn102.wav"/><Relationship Id="rId6" Type="http://schemas.openxmlformats.org/officeDocument/2006/relationships/audio" Target="../media/bserie06.wav"/><Relationship Id="rId7" Type="http://schemas.openxmlformats.org/officeDocument/2006/relationships/audio" Target="../media/jetflyby2.wav"/><Relationship Id="rId8" Type="http://schemas.openxmlformats.org/officeDocument/2006/relationships/audio" Target="../media/jetflyby2.wav"/><Relationship Id="rId9" Type="http://schemas.openxmlformats.org/officeDocument/2006/relationships/audio" Target="../media/jetflyby2.wav"/><Relationship Id="rId10" Type="http://schemas.openxmlformats.org/officeDocument/2006/relationships/audio" Target="../media/jetflyby2.wav"/><Relationship Id="rId11" Type="http://schemas.openxmlformats.org/officeDocument/2006/relationships/audio" Target="../media/jetflyby2.wav"/><Relationship Id="rId12" Type="http://schemas.openxmlformats.org/officeDocument/2006/relationships/audio" Target="../media/zipdn102.wav"/><Relationship Id="rId1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bserie06.wav"/><Relationship Id="rId2" Type="http://schemas.openxmlformats.org/officeDocument/2006/relationships/audio" Target="../media/slider22.wav"/><Relationship Id="rId3" Type="http://schemas.openxmlformats.org/officeDocument/2006/relationships/audio" Target="../media/slider22.wav"/><Relationship Id="rId4" Type="http://schemas.openxmlformats.org/officeDocument/2006/relationships/audio" Target="../media/jetflyby2.wav"/><Relationship Id="rId5" Type="http://schemas.openxmlformats.org/officeDocument/2006/relationships/audio" Target="../media/jetflyby2.wav"/><Relationship Id="rId6" Type="http://schemas.openxmlformats.org/officeDocument/2006/relationships/audio" Target="../media/jetflyby2.wav"/><Relationship Id="rId7" Type="http://schemas.openxmlformats.org/officeDocument/2006/relationships/audio" Target="../media/zipdn102.wav"/><Relationship Id="rId8" Type="http://schemas.openxmlformats.org/officeDocument/2006/relationships/audio" Target="../media/zipdn102.wav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bserie06.wav"/><Relationship Id="rId2" Type="http://schemas.openxmlformats.org/officeDocument/2006/relationships/audio" Target="../media/slider22.wav"/><Relationship Id="rId3" Type="http://schemas.openxmlformats.org/officeDocument/2006/relationships/audio" Target="../media/slider22.wav"/><Relationship Id="rId4" Type="http://schemas.openxmlformats.org/officeDocument/2006/relationships/audio" Target="../media/jetflyby2.wav"/><Relationship Id="rId5" Type="http://schemas.openxmlformats.org/officeDocument/2006/relationships/audio" Target="../media/jetflyby2.wav"/><Relationship Id="rId6" Type="http://schemas.openxmlformats.org/officeDocument/2006/relationships/audio" Target="../media/jetflyby2.wav"/><Relationship Id="rId7" Type="http://schemas.openxmlformats.org/officeDocument/2006/relationships/audio" Target="../media/jetflyby2.wav"/><Relationship Id="rId8" Type="http://schemas.openxmlformats.org/officeDocument/2006/relationships/audio" Target="../media/zipdn102.wav"/><Relationship Id="rId9" Type="http://schemas.openxmlformats.org/officeDocument/2006/relationships/audio" Target="../media/zipdn102.wav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bserie06.wav"/><Relationship Id="rId2" Type="http://schemas.openxmlformats.org/officeDocument/2006/relationships/audio" Target="../media/jetflyby2.wav"/><Relationship Id="rId3" Type="http://schemas.openxmlformats.org/officeDocument/2006/relationships/audio" Target="../media/jetflyby2.wav"/><Relationship Id="rId4" Type="http://schemas.openxmlformats.org/officeDocument/2006/relationships/audio" Target="../media/zipdn102.wav"/><Relationship Id="rId5" Type="http://schemas.openxmlformats.org/officeDocument/2006/relationships/audio" Target="../media/zipdn102.wav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bserie06.wav"/><Relationship Id="rId2" Type="http://schemas.openxmlformats.org/officeDocument/2006/relationships/audio" Target="../media/jetflyby2.wav"/><Relationship Id="rId3" Type="http://schemas.openxmlformats.org/officeDocument/2006/relationships/audio" Target="../media/slider22.wav"/><Relationship Id="rId4" Type="http://schemas.openxmlformats.org/officeDocument/2006/relationships/audio" Target="../media/slider22.wav"/><Relationship Id="rId5" Type="http://schemas.openxmlformats.org/officeDocument/2006/relationships/audio" Target="../media/slider22.wav"/><Relationship Id="rId6" Type="http://schemas.openxmlformats.org/officeDocument/2006/relationships/audio" Target="../media/jetflyby2.wav"/><Relationship Id="rId7" Type="http://schemas.openxmlformats.org/officeDocument/2006/relationships/audio" Target="../media/jetflyby2.wav"/><Relationship Id="rId8" Type="http://schemas.openxmlformats.org/officeDocument/2006/relationships/audio" Target="../media/jetflyby2.wav"/><Relationship Id="rId9" Type="http://schemas.openxmlformats.org/officeDocument/2006/relationships/audio" Target="../media/jetflyby2.wav"/><Relationship Id="rId10" Type="http://schemas.openxmlformats.org/officeDocument/2006/relationships/audio" Target="../media/zipdn102.wav"/><Relationship Id="rId11" Type="http://schemas.openxmlformats.org/officeDocument/2006/relationships/audio" Target="../media/zipdn102.wav"/><Relationship Id="rId12" Type="http://schemas.openxmlformats.org/officeDocument/2006/relationships/audio" Target="../media/zipdn102.wav"/><Relationship Id="rId1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lzipup01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5 – 9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Simplify by Combining Like Term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" name=""/>
              <p:cNvSpPr txBox="1"/>
              <p:nvPr/>
            </p:nvSpPr>
            <p:spPr>
              <a:xfrm>
                <a:off x="326880" y="1479600"/>
                <a:ext cx="3992760" cy="72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" name=""/>
              <p:cNvSpPr txBox="1"/>
              <p:nvPr/>
            </p:nvSpPr>
            <p:spPr>
              <a:xfrm>
                <a:off x="3100320" y="2324160"/>
                <a:ext cx="579600" cy="63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506520" y="2197080"/>
                <a:ext cx="2695320" cy="82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1649520" y="2986200"/>
                <a:ext cx="1442880" cy="74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6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260280" y="3854520"/>
                <a:ext cx="4989600" cy="71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4</m:t>
                    </m:r>
                    <m:r>
                      <m:t xml:space="preserve">b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  <m:r>
                      <m:t xml:space="preserve">b</m:t>
                    </m:r>
                    <m:r>
                      <m:t xml:space="preserve">+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" name=""/>
              <p:cNvSpPr txBox="1"/>
              <p:nvPr/>
            </p:nvSpPr>
            <p:spPr>
              <a:xfrm>
                <a:off x="4502160" y="4548240"/>
                <a:ext cx="514440" cy="77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" name=""/>
              <p:cNvSpPr txBox="1"/>
              <p:nvPr/>
            </p:nvSpPr>
            <p:spPr>
              <a:xfrm>
                <a:off x="946080" y="4543560"/>
                <a:ext cx="3583080" cy="83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4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" name=""/>
              <p:cNvSpPr txBox="1"/>
              <p:nvPr/>
            </p:nvSpPr>
            <p:spPr>
              <a:xfrm>
                <a:off x="2146320" y="6105600"/>
                <a:ext cx="1420920" cy="75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4554360" y="3792600"/>
                <a:ext cx="420840" cy="73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4191120" y="5332320"/>
                <a:ext cx="514080" cy="77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1409760" y="5327640"/>
                <a:ext cx="2752560" cy="83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5 – 9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Simplify by Combining Like Term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230040" y="1419120"/>
                <a:ext cx="7783560" cy="72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ab</m:t>
                    </m:r>
                    <m:r>
                      <m:t xml:space="preserve">+</m:t>
                    </m:r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ab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3848040" y="2965320"/>
                <a:ext cx="943200" cy="77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851040" y="2911320"/>
                <a:ext cx="301932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2247840" y="3894120"/>
                <a:ext cx="1797120" cy="75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a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936720" y="2179800"/>
                <a:ext cx="3992400" cy="72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ab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a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4738680" y="2892600"/>
                <a:ext cx="3643200" cy="94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4094280" y="3894120"/>
                <a:ext cx="1546200" cy="75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4991040" y="2178000"/>
                <a:ext cx="2984400" cy="72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slider2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slider2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5 – 9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Simplify by Combining Like Term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179280" y="1400040"/>
                <a:ext cx="8523360" cy="81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5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3843360" y="3097080"/>
                <a:ext cx="771480" cy="94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168120" y="3116160"/>
                <a:ext cx="376416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5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1971720" y="4081320"/>
                <a:ext cx="2089080" cy="92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566640" y="2170080"/>
                <a:ext cx="451800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5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8250120" y="3305160"/>
                <a:ext cx="55728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3855960" y="4118040"/>
                <a:ext cx="2006640" cy="75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4572000" y="3083040"/>
                <a:ext cx="3814920" cy="94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4943520" y="2233440"/>
                <a:ext cx="3913200" cy="72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slider2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slider2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5 – 9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Simplify by Combining Like Term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368280" y="1442880"/>
                <a:ext cx="8116920" cy="66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  <m:r>
                      <m:t xml:space="preserve">c</m:t>
                    </m:r>
                    <m:r>
                      <m:t xml:space="preserve">+</m:t>
                    </m:r>
                    <m:r>
                      <m:t xml:space="preserve">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cd</m:t>
                    </m:r>
                    <m:r>
                      <m:t xml:space="preserve">−</m:t>
                    </m:r>
                    <m:r>
                      <m:t xml:space="preserve">8</m:t>
                    </m:r>
                    <m:r>
                      <m:t xml:space="preserve">d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274680" y="2270160"/>
                <a:ext cx="5168880" cy="74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  <m:r>
                      <m:t xml:space="preserve">c</m:t>
                    </m:r>
                    <m:r>
                      <m:t xml:space="preserve">+</m:t>
                    </m:r>
                    <m:r>
                      <m:t xml:space="preserve">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cd</m:t>
                    </m:r>
                    <m:r>
                      <m:t xml:space="preserve">−</m:t>
                    </m:r>
                    <m:r>
                      <m:t xml:space="preserve">8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236520" y="3295800"/>
                <a:ext cx="5222880" cy="75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  <m:r>
                      <m:t xml:space="preserve">c</m:t>
                    </m:r>
                    <m:r>
                      <m:t xml:space="preserve">+</m:t>
                    </m:r>
                    <m:r>
                      <m:t xml:space="preserve">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cd</m:t>
                    </m:r>
                    <m:r>
                      <m:t xml:space="preserve">−</m:t>
                    </m:r>
                    <m:r>
                      <m:t xml:space="preserve">8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5429160" y="3279600"/>
                <a:ext cx="1630440" cy="75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5415120" y="2184480"/>
                <a:ext cx="3728880" cy="94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7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5 – 9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Simplify by Combining Like Term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326880" y="1379520"/>
                <a:ext cx="8228160" cy="70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3125880" y="3132000"/>
                <a:ext cx="728640" cy="81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196920" y="3213000"/>
                <a:ext cx="296208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1906560" y="4143240"/>
                <a:ext cx="1628640" cy="79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353880" y="2214720"/>
                <a:ext cx="3387960" cy="76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1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3865680" y="3225960"/>
                <a:ext cx="1801800" cy="69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3516480" y="4183200"/>
                <a:ext cx="1965240" cy="75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5586480" y="3195720"/>
                <a:ext cx="3375000" cy="84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3735360" y="2236680"/>
                <a:ext cx="1895400" cy="72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5629320" y="2236680"/>
                <a:ext cx="3105000" cy="72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5483160" y="4181400"/>
                <a:ext cx="1630440" cy="75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6281640" y="1293840"/>
                <a:ext cx="420840" cy="73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slider2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lider2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slider2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1538280"/>
            <a:ext cx="914400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Page 129, 5 – 9 #1-14 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Worksheet #102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2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2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amon.skelton</cp:lastModifiedBy>
  <dcterms:modified xsi:type="dcterms:W3CDTF">2004-11-01T14:25:46Z</dcterms:modified>
  <cp:revision>58</cp:revision>
  <dc:subject/>
  <dc:title>Slide 1</dc:title>
</cp:coreProperties>
</file>